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8.jpeg" ContentType="image/jpeg"/>
  <Override PartName="/ppt/media/image33.jpeg" ContentType="image/jpeg"/>
  <Override PartName="/ppt/media/image27.jpeg" ContentType="image/jpeg"/>
  <Override PartName="/ppt/media/image32.jpeg" ContentType="image/jpeg"/>
  <Override PartName="/ppt/media/image11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DA4-1E9E-4BA4-B54E-917F2CA0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346-B6B3-41EA-8437-BD4B94C9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E62-BF33-45BC-9EDA-131BFF89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277-0EE7-4618-B125-4DF3154C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A97F-AAE2-4602-83AC-3D9A6AD0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DAD4-332D-4B18-8793-C1A67D2D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E660-7F0A-4261-8D76-8E74ED60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FCD7-0B6D-4204-99FC-CF0F70AB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0B3E-E6B1-455B-856B-CF30B467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6223-F111-4C01-B471-9BE6D1B6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9C8A-0B8D-454A-B2F6-DD8D2CF0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37B-B8CD-495D-A019-7FFA47A8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BD9B-ADD8-4BEF-951A-DB785A06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793C-F795-45EB-A4C9-C5D5C1CB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BA91-30A5-45C6-A30F-711C3F6F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2849-DAB3-4262-8747-42D9B034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E9BA-81F2-4EFD-8904-9BEF53E0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1024-57C5-475C-B693-3AE0DB73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003-CCB2-4138-A1D2-A3E340C7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7BB-684A-4A2B-8EE3-EAA14F8D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3E3-8450-4A14-AAEB-98D7DA46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819-9C48-48A3-9C2C-1DEE54A5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AAC-CCF5-4305-8233-453FD8DE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EB9-3577-4734-A1FF-1DE39BDB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9d9d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0017"/>
              </a:gs>
              <a:gs pos="50000">
                <a:srgbClr val="ff0033"/>
              </a:gs>
              <a:gs pos="100000">
                <a:srgbClr val="75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0274-2EBA-436E-9E37-B0B540AF65B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C4E5-4E70-4022-B8A0-8342B800D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9d9d9d"/>
              </a:gs>
              <a:gs pos="50000">
                <a:srgbClr val="ffffff">
                  <a:alpha val="50196"/>
                </a:srgbClr>
              </a:gs>
              <a:gs pos="100000">
                <a:srgbClr val="9d9d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52FC-2DC9-40BF-80EF-DB75FF29C3D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D6C1-C0C2-4410-AC47-1FB86440E1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image" Target="../media/image25.png"/><Relationship Id="rId15" Type="http://schemas.openxmlformats.org/officeDocument/2006/relationships/image" Target="../media/image26.jpeg"/><Relationship Id="rId16" Type="http://schemas.openxmlformats.org/officeDocument/2006/relationships/image" Target="../media/image27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jpeg"/><Relationship Id="rId20" Type="http://schemas.openxmlformats.org/officeDocument/2006/relationships/image" Target="../media/image31.jpeg"/><Relationship Id="rId2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2057400"/>
            <a:ext cx="80010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ЗДАНИЕ УСЛОВИЙ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САМОРЕАЛИЗАЦИИ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ТЕЙ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1276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МОУ «Средняя общеобразовательная школа № 15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9200" y="676440"/>
            <a:ext cx="904680" cy="923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05120" y="56386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НЫЙ РУКОВОДИТЕЛЬ 6 «Б» КЛАССА КОНДРАТЬЕВА И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698400"/>
            <a:ext cx="762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33"/>
                </a:solidFill>
                <a:latin typeface="Arial"/>
              </a:rPr>
              <a:t>ПЕДАГОГИЧЕСКИЙ СОВЕТ: </a:t>
            </a:r>
            <a:br>
              <a:rPr sz="1600"/>
            </a:br>
            <a:r>
              <a:rPr b="1" lang="ru-RU" sz="1600" spc="-1" strike="noStrike">
                <a:solidFill>
                  <a:srgbClr val="ff0033"/>
                </a:solidFill>
                <a:latin typeface="Arial"/>
              </a:rPr>
              <a:t>«РАБОТА С УЧАЩИМИСЯ, ИМЕЮЩИМИ ПОВЫШЕННУЮ МОТИВАЦИЮ К УЧЕБНО-ПОЗНОВАТЕЛЬНОЙ ДЕЯТЕЛЬ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A40BB-D451-4E44-85E5-8C89254907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3520" y="2362320"/>
            <a:ext cx="8229600" cy="19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яснительная 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аписка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BC9BA-8166-4E33-A423-75C44F398B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8534520" y="6248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  <a:path fill="darkenLess" w="21600" h="28766">
                <a:moveTo>
                  <a:pt x="5273" y="7568"/>
                </a:moveTo>
                <a:lnTo>
                  <a:pt x="12271" y="7568"/>
                </a:lnTo>
                <a:lnTo>
                  <a:pt x="16327" y="11067"/>
                </a:lnTo>
                <a:lnTo>
                  <a:pt x="16327" y="21198"/>
                </a:lnTo>
                <a:lnTo>
                  <a:pt x="5273" y="21198"/>
                </a:lnTo>
                <a:close/>
              </a:path>
              <a:path fill="darken" w="21600" h="28766">
                <a:moveTo>
                  <a:pt x="12271" y="7568"/>
                </a:moveTo>
                <a:lnTo>
                  <a:pt x="16327" y="11067"/>
                </a:lnTo>
                <a:lnTo>
                  <a:pt x="12271" y="11067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862AB-01DE-4C4D-9EA2-BA4ADC0489C3}" type="datetime1">
              <a:rPr lang="en-US"/>
              <a:t>07/30/26</a:t>
            </a:fld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1905120"/>
            <a:ext cx="8001000" cy="14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енностно - смысловое ядро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3676680"/>
            <a:ext cx="76201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00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питательной системы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00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0CA5762-84FE-42A0-818A-1AAEDC945D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62120" y="304920"/>
            <a:ext cx="8001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Цель воспитательной систем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666880"/>
            <a:ext cx="8077320" cy="221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йствовать развитию нравственной, интеллектуальной, активной личности, способной к самопознанию и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BC94E-99AB-41FD-93C3-C3C14417F6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143000" y="228600"/>
            <a:ext cx="7315200" cy="16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33"/>
                </a:solidFill>
                <a:latin typeface="Impact"/>
              </a:rPr>
              <a:t>Воспитательные задач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33"/>
              </a:solidFill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2057400"/>
            <a:ext cx="5943600" cy="10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личности, развития творческой активности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28880" y="2743200"/>
            <a:ext cx="5600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крепление школьных традиций, сплочение ученического и родительского коллектива, развитие самостоятельности,  взаимопомощи, взаимовыру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14680" y="3657600"/>
            <a:ext cx="5676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влечение учащихся к организации и проведению классных часов и других школьных мероприятий, а так же мероприятий окружающего социу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4495680"/>
            <a:ext cx="56390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вершенствование навыков межличностных отношений не только  решением образовательных, интеллектуальных задач, но и гражданских, нравственных, этических и эстет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5486400"/>
            <a:ext cx="5791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тие рефлексивных способностей учащихся, навыков приема и передачи обратной связи, коммуникативных умений в различных сферах и ситуациях общ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5798C-C53F-4D47-8DC6-E78E72DD29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600200" y="704880"/>
            <a:ext cx="624852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33"/>
                </a:solidFill>
                <a:latin typeface="Impact"/>
              </a:rPr>
              <a:t>принцип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33"/>
              </a:solidFill>
              <a:latin typeface="Impact"/>
              <a:ea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978200"/>
            <a:ext cx="2705040" cy="91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иентация на общечеловеческие ц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4419720"/>
            <a:ext cx="25146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грация воспитательно – образовательных усилий семьи, школы, У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2854440"/>
            <a:ext cx="2324160" cy="10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 личностной ори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1925640"/>
            <a:ext cx="320040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 природосообраз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81760" y="4343400"/>
            <a:ext cx="23241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и укрепление классных и школьных трад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285640" y="1371600"/>
            <a:ext cx="609480" cy="533520"/>
          </a:xfrm>
          <a:prstGeom prst="line">
            <a:avLst/>
          </a:prstGeom>
          <a:ln cap="sq" w="38160">
            <a:solidFill>
              <a:srgbClr val="00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743200" y="1447920"/>
            <a:ext cx="914400" cy="2819160"/>
          </a:xfrm>
          <a:prstGeom prst="line">
            <a:avLst/>
          </a:prstGeom>
          <a:ln cap="sq" w="38160">
            <a:solidFill>
              <a:srgbClr val="00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371600"/>
            <a:ext cx="0" cy="1371600"/>
          </a:xfrm>
          <a:prstGeom prst="line">
            <a:avLst/>
          </a:prstGeom>
          <a:ln cap="sq" w="38160">
            <a:solidFill>
              <a:srgbClr val="00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1371600"/>
            <a:ext cx="762120" cy="533520"/>
          </a:xfrm>
          <a:prstGeom prst="line">
            <a:avLst/>
          </a:prstGeom>
          <a:ln cap="sq" w="38160">
            <a:solidFill>
              <a:srgbClr val="00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1371600"/>
            <a:ext cx="914400" cy="2895480"/>
          </a:xfrm>
          <a:prstGeom prst="line">
            <a:avLst/>
          </a:prstGeom>
          <a:ln cap="sq" w="38160">
            <a:solidFill>
              <a:srgbClr val="00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058DE-5FB3-48EF-88FA-EC7D569F38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3520" y="2209680"/>
            <a:ext cx="8153280" cy="15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00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ханизм функционирования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00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3676680"/>
            <a:ext cx="76201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00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питательной системы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00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FCE8D-4A85-44BD-8C25-BA2D604E0E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14480"/>
            <a:ext cx="84772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33"/>
                </a:solidFill>
                <a:latin typeface="Impact"/>
              </a:rPr>
              <a:t>основные направления содержа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33"/>
              </a:solidFill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133720" y="838080"/>
            <a:ext cx="5715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33"/>
                </a:solidFill>
                <a:latin typeface="Impact"/>
              </a:rPr>
              <a:t>воспитательной рабо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33"/>
              </a:solidFill>
              <a:latin typeface="Impact"/>
              <a:ea typeface="Impact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057400"/>
            <a:ext cx="83822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Ориентация учащихся на общечеловеческие ц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Организация интересной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Организация работы по программе «Воспитания юного калужан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Организация работы с одаренными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Развитие ученического само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летнего труда и отды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416F2-3A29-478C-83DB-7F77BD4A87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E3AD2-CD34-43F0-8BEA-AFD9B416B826}" type="datetime1">
              <a:rPr lang="en-US"/>
              <a:t>07/30/26</a:t>
            </a:fld>
          </a:p>
        </p:txBody>
      </p:sp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198A-E023-4C6D-A48B-9E252FE1B7B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685800"/>
            <a:ext cx="1676520" cy="1676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43200" y="3276720"/>
            <a:ext cx="3743280" cy="1123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819520" y="665280"/>
            <a:ext cx="3581280" cy="1925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6438960"/>
            <a:ext cx="8382240" cy="342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ЛЕНЫ КЛАССНОГО КОЛЛЕКТ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723960"/>
            <a:ext cx="1600200" cy="1485720"/>
          </a:xfrm>
          <a:prstGeom prst="ellipse">
            <a:avLst/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1295280"/>
            <a:ext cx="18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ОДИТЕЛЬСКИЙ КОМИ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9809600">
            <a:off x="6324120" y="2666520"/>
            <a:ext cx="1752840" cy="76320"/>
          </a:xfrm>
          <a:prstGeom prst="leftRightArrow">
            <a:avLst>
              <a:gd name="adj1" fmla="val 50000"/>
              <a:gd name="adj2" fmla="val 457213"/>
            </a:avLst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170000">
            <a:off x="926640" y="2817720"/>
            <a:ext cx="1752840" cy="76320"/>
          </a:xfrm>
          <a:prstGeom prst="leftRightArrow">
            <a:avLst>
              <a:gd name="adj1" fmla="val 50000"/>
              <a:gd name="adj2" fmla="val 457213"/>
            </a:avLst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345800">
            <a:off x="6324480" y="1142640"/>
            <a:ext cx="990720" cy="76320"/>
          </a:xfrm>
          <a:prstGeom prst="leftRightArrow">
            <a:avLst>
              <a:gd name="adj1" fmla="val 50000"/>
              <a:gd name="adj2" fmla="val 258420"/>
            </a:avLst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0526600">
            <a:off x="1828440" y="1142640"/>
            <a:ext cx="990720" cy="76320"/>
          </a:xfrm>
          <a:prstGeom prst="leftRightArrow">
            <a:avLst>
              <a:gd name="adj1" fmla="val 50000"/>
              <a:gd name="adj2" fmla="val 258420"/>
            </a:avLst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880" y="76320"/>
            <a:ext cx="8534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амоуправление в класс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1981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Э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«РОДНИЧ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2171880"/>
            <a:ext cx="22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РЯ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886200" y="2019240"/>
            <a:ext cx="1211400" cy="171468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3886200" y="3467160"/>
            <a:ext cx="1295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КОМАНДИ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4114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ОВЕТ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4419720"/>
            <a:ext cx="3733920" cy="342720"/>
          </a:xfrm>
          <a:prstGeom prst="rect">
            <a:avLst/>
          </a:prstGeom>
          <a:noFill/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ОР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4838760"/>
            <a:ext cx="3733920" cy="342720"/>
          </a:xfrm>
          <a:prstGeom prst="rect">
            <a:avLst/>
          </a:prstGeom>
          <a:noFill/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ВОРЧЕСКИЕ ГРУП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495680"/>
            <a:ext cx="76320" cy="762120"/>
          </a:xfrm>
          <a:prstGeom prst="upDownArrow">
            <a:avLst>
              <a:gd name="adj1" fmla="val 50000"/>
              <a:gd name="adj2" fmla="val 19879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4495680"/>
            <a:ext cx="76320" cy="762120"/>
          </a:xfrm>
          <a:prstGeom prst="upDownArrow">
            <a:avLst>
              <a:gd name="adj1" fmla="val 50000"/>
              <a:gd name="adj2" fmla="val 19879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0160" y="6032520"/>
            <a:ext cx="923040" cy="276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УЧЕБ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385920" y="3657600"/>
            <a:ext cx="680760" cy="990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2006640" y="4495680"/>
            <a:ext cx="611280" cy="914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7186680" y="5029200"/>
            <a:ext cx="662040" cy="7621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7229520" y="4114800"/>
            <a:ext cx="695160" cy="871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8305920" y="3809880"/>
            <a:ext cx="609480" cy="990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0"/>
          <a:stretch/>
        </p:blipFill>
        <p:spPr>
          <a:xfrm>
            <a:off x="3983040" y="5257800"/>
            <a:ext cx="588960" cy="762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1"/>
          <a:stretch/>
        </p:blipFill>
        <p:spPr>
          <a:xfrm>
            <a:off x="1219320" y="4010040"/>
            <a:ext cx="712800" cy="9428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4629240" y="5257800"/>
            <a:ext cx="574560" cy="762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3"/>
          <a:stretch/>
        </p:blipFill>
        <p:spPr>
          <a:xfrm>
            <a:off x="8001000" y="5029200"/>
            <a:ext cx="647640" cy="990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4"/>
          <a:stretch/>
        </p:blipFill>
        <p:spPr>
          <a:xfrm>
            <a:off x="7620120" y="3048120"/>
            <a:ext cx="644400" cy="990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5"/>
          <a:stretch/>
        </p:blipFill>
        <p:spPr>
          <a:xfrm>
            <a:off x="1143000" y="2971800"/>
            <a:ext cx="650880" cy="990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6"/>
          <a:stretch/>
        </p:blipFill>
        <p:spPr>
          <a:xfrm>
            <a:off x="6553080" y="4572000"/>
            <a:ext cx="582840" cy="914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7"/>
          <a:stretch/>
        </p:blipFill>
        <p:spPr>
          <a:xfrm>
            <a:off x="176040" y="4719600"/>
            <a:ext cx="738360" cy="1147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8"/>
          <a:stretch/>
        </p:blipFill>
        <p:spPr>
          <a:xfrm>
            <a:off x="5735520" y="5257800"/>
            <a:ext cx="435240" cy="762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9"/>
          <a:stretch/>
        </p:blipFill>
        <p:spPr>
          <a:xfrm>
            <a:off x="990720" y="5105520"/>
            <a:ext cx="885600" cy="6271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0"/>
          <a:stretch/>
        </p:blipFill>
        <p:spPr>
          <a:xfrm>
            <a:off x="2728800" y="5257800"/>
            <a:ext cx="623880" cy="762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302840" y="5867280"/>
            <a:ext cx="1153080" cy="459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УЛЬТУР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АССО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4560" y="6041880"/>
            <a:ext cx="1326600" cy="276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ЕДКОЛЛЕ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68280" y="6040440"/>
            <a:ext cx="1262880" cy="276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ПОР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0600" y="6049800"/>
            <a:ext cx="986760" cy="276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ШЕФ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5480" y="5867280"/>
            <a:ext cx="1209600" cy="459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«ХОЗЯЕВ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ХОЗЯЮШ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02560" y="6040440"/>
            <a:ext cx="1201680" cy="276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ЦВЕТО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71680" y="2133720"/>
            <a:ext cx="8000280" cy="4266360"/>
            <a:chOff x="571680" y="2133720"/>
            <a:chExt cx="8000280" cy="4266360"/>
          </a:xfrm>
        </p:grpSpPr>
        <p:sp>
          <p:nvSpPr>
            <p:cNvPr id="95" name=""/>
            <p:cNvSpPr/>
            <p:nvPr/>
          </p:nvSpPr>
          <p:spPr>
            <a:xfrm>
              <a:off x="665640" y="4674960"/>
              <a:ext cx="7906320" cy="1157760"/>
            </a:xfrm>
            <a:prstGeom prst="rightArrow">
              <a:avLst>
                <a:gd name="adj1" fmla="val 36602"/>
                <a:gd name="adj2" fmla="val 28075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600" y="2133720"/>
              <a:ext cx="3012120" cy="362520"/>
            </a:xfrm>
            <a:prstGeom prst="flowChartProcess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тап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72080" y="2860200"/>
              <a:ext cx="2352600" cy="362520"/>
            </a:xfrm>
            <a:prstGeom prst="flowChartProcess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тап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4680" y="3585600"/>
              <a:ext cx="2070720" cy="363600"/>
            </a:xfrm>
            <a:prstGeom prst="flowChartProcess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тап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18760" y="2496240"/>
              <a:ext cx="1976400" cy="81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«Делай, как я!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48280" y="3223080"/>
              <a:ext cx="183564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«Делай, ка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большин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из нас!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24680" y="3949560"/>
              <a:ext cx="1976400" cy="10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«Делай, ка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лучшие из нас!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680" y="5583600"/>
              <a:ext cx="1270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72080" y="5583600"/>
              <a:ext cx="15526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71840" y="5583600"/>
              <a:ext cx="1835640" cy="81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68162-623B-4178-A86C-F880B2AE2565}" type="datetime1">
              <a:rPr lang="en-US"/>
              <a:t>07/30/26</a:t>
            </a:fld>
          </a:p>
        </p:txBody>
      </p:sp>
    </p:spTree>
  </p:cSld>
  <p:transition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076480" y="76320"/>
            <a:ext cx="3638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33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Девиз класса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0033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76320" y="7621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  <a:ea typeface="Tahoma"/>
              </a:rPr>
              <a:t>Ни шагу назад, ни шагу на месте, а только вперед, и только все в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0880" y="1905120"/>
            <a:ext cx="411480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33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ечевка класса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0033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733920" cy="2800440"/>
          </a:xfrm>
          <a:prstGeom prst="rect">
            <a:avLst/>
          </a:prstGeom>
          <a:ln w="9360">
            <a:solidFill>
              <a:srgbClr val="ff0033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80880" y="2743200"/>
            <a:ext cx="541044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, два, три, четыре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ри, четыре, раз, дв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то шагает ровно в ряд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Это дружный наш отряд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сем! Всем! Добрый ден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чь с дороги нашей, лен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8320" y="4419720"/>
            <a:ext cx="449568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е отстанем мы ниг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и в учебе, ни в труде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ш отряд к победе ид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олько все вместе, и только вперед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51038-9DF0-486F-A315-28C07F9E8A22}" type="datetime1">
              <a:rPr lang="en-US"/>
              <a:t>07/30/26</a:t>
            </a:fld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76320" y="76320"/>
            <a:ext cx="8988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100000">
                      <a:srgbClr val="ff00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авила жизни в классном коллектив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00"/>
                  </a:gs>
                  <a:gs pos="100000">
                    <a:srgbClr val="ff00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895840" cy="2171520"/>
          </a:xfrm>
          <a:prstGeom prst="rect">
            <a:avLst/>
          </a:prstGeom>
          <a:ln w="9360">
            <a:solidFill>
              <a:srgbClr val="ff0033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457200" y="138744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Любить Калугу, свою малую Родин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182880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ahoma"/>
                <a:ea typeface="Tahoma"/>
              </a:rPr>
              <a:t>Чтить память павших героев и готовить себя к защите Родины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388620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ahoma"/>
                <a:ea typeface="Tahoma"/>
              </a:rPr>
              <a:t>Быть настойчивыми в учебе, труде, спо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200400" y="2019240"/>
            <a:ext cx="2514600" cy="1886040"/>
          </a:xfrm>
          <a:prstGeom prst="rect">
            <a:avLst/>
          </a:prstGeom>
          <a:ln w="9360">
            <a:solidFill>
              <a:srgbClr val="ff0033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800600" y="3505320"/>
            <a:ext cx="2438280" cy="1828800"/>
          </a:xfrm>
          <a:prstGeom prst="rect">
            <a:avLst/>
          </a:prstGeom>
          <a:ln w="9360">
            <a:solidFill>
              <a:srgbClr val="ff0033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124080" y="4991040"/>
            <a:ext cx="2286000" cy="1714680"/>
          </a:xfrm>
          <a:prstGeom prst="rect">
            <a:avLst/>
          </a:prstGeom>
          <a:ln w="9360">
            <a:solidFill>
              <a:srgbClr val="ff0033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0" y="4422600"/>
            <a:ext cx="30481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Жить весело, содержательно, быть активными, творчески подходить к каждому дел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525780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тноситься к окружающим, помня золотое правило: не делай людям того, чего не желаешь себ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67480" y="3581280"/>
            <a:ext cx="16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ahoma"/>
                <a:ea typeface="Tahoma"/>
              </a:rPr>
              <a:t>Содержать в чистоте свой дом, школу, улицу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18456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кружать заботой малышей и пожил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D2B9F-301F-48B1-9F92-7523182006B7}" type="datetime1">
              <a:rPr lang="en-US"/>
              <a:t>07/30/26</a:t>
            </a:fld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6080" y="0"/>
            <a:ext cx="9051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AEB7D-0486-4C43-8694-BBA250381149}" type="datetime1">
              <a:rPr lang="en-US"/>
              <a:t>07/30/26</a:t>
            </a:fld>
          </a:p>
        </p:txBody>
      </p:sp>
    </p:spTree>
  </p:cSld>
  <p:transition spd="med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43080" y="685800"/>
            <a:ext cx="788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РУКТУРА ПРОГРАММЫ ВОСПИТАНИЯ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905120"/>
            <a:ext cx="7696440" cy="611640"/>
          </a:xfrm>
          <a:prstGeom prst="rect">
            <a:avLst/>
          </a:prstGeom>
          <a:solidFill>
            <a:srgbClr val="ccccff">
              <a:alpha val="50000"/>
            </a:srgbClr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СОЦИАЛЬНО-ПЕДАГОГИЧЕСКОЙ СИТУАЦИИ</a:t>
            </a:r>
            <a:br>
              <a:rPr sz="18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НАЛИЗ ВОСПИТАТЕЛЬНОЙ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2971800"/>
            <a:ext cx="7696440" cy="642600"/>
          </a:xfrm>
          <a:prstGeom prst="rect">
            <a:avLst/>
          </a:prstGeom>
          <a:solidFill>
            <a:srgbClr val="ccccff">
              <a:alpha val="50000"/>
            </a:srgbClr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br>
              <a:rPr sz="18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АРАКТЕРИСТИКА КЛАСС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ЦЕПТУАЛЬНЫЕ ОСНОВЫ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4114800"/>
            <a:ext cx="7696440" cy="611640"/>
          </a:xfrm>
          <a:prstGeom prst="rect">
            <a:avLst/>
          </a:prstGeom>
          <a:solidFill>
            <a:srgbClr val="ccccff">
              <a:alpha val="50000"/>
            </a:srgbClr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НОСТНО – СМЫСЛОВОЕ ЯДРО</a:t>
            </a:r>
            <a:br>
              <a:rPr sz="18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ЛЬ, ЗАДАЧИ, СИСТЕМООБРАЗУЮЩИЕ ВИД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5105520"/>
            <a:ext cx="7696440" cy="611640"/>
          </a:xfrm>
          <a:prstGeom prst="rect">
            <a:avLst/>
          </a:prstGeom>
          <a:solidFill>
            <a:srgbClr val="ccccff">
              <a:alpha val="50000"/>
            </a:srgbClr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ХАНИЗМЫ РЕАЛИЗАЦИИ СОДЕРЖАНИЯ ВОСПИТАНИЯ</a:t>
            </a:r>
            <a:br>
              <a:rPr sz="18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НОВНЫЕ НАПРАВЛЕНИЯ РАБОТЫ, МОДЕЛЬ САМО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6148440"/>
            <a:ext cx="769644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ЛЕНДАРНЫЙ ПЛ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2590920"/>
            <a:ext cx="0" cy="380880"/>
          </a:xfrm>
          <a:prstGeom prst="line">
            <a:avLst/>
          </a:prstGeom>
          <a:ln cap="sq"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3657600"/>
            <a:ext cx="0" cy="457200"/>
          </a:xfrm>
          <a:prstGeom prst="line">
            <a:avLst/>
          </a:prstGeom>
          <a:ln cap="sq"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4800600"/>
            <a:ext cx="0" cy="304920"/>
          </a:xfrm>
          <a:prstGeom prst="line">
            <a:avLst/>
          </a:prstGeom>
          <a:ln cap="sq"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791320"/>
            <a:ext cx="0" cy="380880"/>
          </a:xfrm>
          <a:prstGeom prst="line">
            <a:avLst/>
          </a:prstGeom>
          <a:ln cap="sq"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83BD2-0911-454A-8201-2737B80A14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515280" y="2438280"/>
            <a:ext cx="2552400" cy="1914480"/>
          </a:xfrm>
          <a:prstGeom prst="rect">
            <a:avLst/>
          </a:prstGeom>
          <a:ln w="9360">
            <a:solidFill>
              <a:srgbClr val="ff0033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6320" y="4438800"/>
            <a:ext cx="2819160" cy="2114280"/>
          </a:xfrm>
          <a:prstGeom prst="rect">
            <a:avLst/>
          </a:prstGeom>
          <a:ln w="9360">
            <a:solidFill>
              <a:srgbClr val="ff0033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172200" y="4381560"/>
            <a:ext cx="2895480" cy="2171520"/>
          </a:xfrm>
          <a:prstGeom prst="rect">
            <a:avLst/>
          </a:prstGeom>
          <a:ln w="9360">
            <a:solidFill>
              <a:srgbClr val="ff0033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76320" y="0"/>
            <a:ext cx="3276360" cy="2457360"/>
          </a:xfrm>
          <a:prstGeom prst="rect">
            <a:avLst/>
          </a:prstGeom>
          <a:ln w="9360">
            <a:solidFill>
              <a:srgbClr val="ff0033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867280" y="19080"/>
            <a:ext cx="3200400" cy="2400120"/>
          </a:xfrm>
          <a:prstGeom prst="rect">
            <a:avLst/>
          </a:prstGeom>
          <a:ln w="9360">
            <a:solidFill>
              <a:srgbClr val="ff0033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76320" y="1905120"/>
            <a:ext cx="1885680" cy="2514600"/>
          </a:xfrm>
          <a:prstGeom prst="rect">
            <a:avLst/>
          </a:prstGeom>
          <a:ln w="9360">
            <a:solidFill>
              <a:srgbClr val="ff0033"/>
            </a:solidFill>
            <a:miter/>
          </a:ln>
        </p:spPr>
      </p:pic>
      <p:sp>
        <p:nvSpPr>
          <p:cNvPr id="234" name=""/>
          <p:cNvSpPr/>
          <p:nvPr/>
        </p:nvSpPr>
        <p:spPr>
          <a:xfrm>
            <a:off x="1981080" y="304920"/>
            <a:ext cx="5562720" cy="6248160"/>
          </a:xfrm>
          <a:prstGeom prst="foldedCorner">
            <a:avLst>
              <a:gd name="adj" fmla="val 27310"/>
            </a:avLst>
          </a:prstGeom>
          <a:gradFill rotWithShape="0">
            <a:gsLst>
              <a:gs pos="0">
                <a:srgbClr val="868686"/>
              </a:gs>
              <a:gs pos="50000">
                <a:srgbClr val="ffffff"/>
              </a:gs>
              <a:gs pos="100000">
                <a:srgbClr val="868686"/>
              </a:gs>
            </a:gsLst>
            <a:lin ang="5400000"/>
          </a:gradFill>
          <a:ln cap="sq"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Monotype Corsiva"/>
              </a:rPr>
              <a:t>Детские души как искры разжеч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Monotype Corsiva"/>
              </a:rPr>
              <a:t>За собой повести, воспитать их , увл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Monotype Corsiva"/>
              </a:rPr>
              <a:t>Научить их поверить в доб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Monotype Corsiva"/>
              </a:rPr>
              <a:t>и в себ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Monotype Corsiva"/>
              </a:rPr>
              <a:t>вот задач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Monotype Corsiva"/>
              </a:rPr>
              <a:t>к  кото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Monotype Corsiva"/>
              </a:rPr>
              <a:t>стремлю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Monotype Corsiva"/>
              </a:rPr>
              <a:t>все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Monotype Corsiva"/>
              </a:rPr>
              <a:t>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A4861-1A89-42F7-BB09-A90C5651D236}" type="datetime1">
              <a:rPr lang="en-US"/>
              <a:t>07/30/26</a:t>
            </a:fld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80720" y="36576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Воспитательная система класс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классного руководител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Кондратьевой И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685800"/>
            <a:ext cx="8683200" cy="2476080"/>
            <a:chOff x="228600" y="685800"/>
            <a:chExt cx="8683200" cy="2476080"/>
          </a:xfrm>
        </p:grpSpPr>
        <p:sp>
          <p:nvSpPr>
            <p:cNvPr id="107" name=""/>
            <p:cNvSpPr txBox="1"/>
            <p:nvPr/>
          </p:nvSpPr>
          <p:spPr>
            <a:xfrm>
              <a:off x="2218680" y="685800"/>
              <a:ext cx="5370480" cy="92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81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Развитие творческой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1302840" y="1536840"/>
              <a:ext cx="6885360" cy="92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81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и интеллектуальной личности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228600" y="2349720"/>
              <a:ext cx="6783840" cy="81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81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в школьной воспитательной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7106760" y="2543040"/>
              <a:ext cx="1805040" cy="58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81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системе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523880" y="21276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МОУ «Средняя общеобразовательная школа № 15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05040" cy="92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828800" y="46674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04920" y="37339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1F968E4-003A-4C76-9B5F-E524FC889201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8534520" y="64771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33207-784C-4A2C-8F5C-38AD3837A642}" type="datetime1">
              <a:rPr lang="en-US"/>
              <a:t>07/30/26</a:t>
            </a:fld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E8B5C-CB6D-4F43-AF5C-993796CE27B4}" type="datetime1">
              <a:rPr lang="en-US"/>
              <a:t>07/30/26</a:t>
            </a:fld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2755D-8769-4235-9BEA-1CD1C98F8792}" type="datetime1">
              <a:rPr lang="en-US"/>
              <a:t>07/30/26</a:t>
            </a:fld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533376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812CF-1D7D-45BD-B2BE-3DA3EE178DAB}" type="datetime1">
              <a:rPr lang="en-US"/>
              <a:t>07/30/26</a:t>
            </a:fld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2286000"/>
            <a:ext cx="8381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нализ 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питательной работы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EA6E4-5BCE-4F79-A739-59A02E660D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9446E-F8E8-4FF2-A54F-E5DCAE49024E}" type="datetime1">
              <a:rPr lang="en-US"/>
              <a:t>07/30/26</a:t>
            </a:fld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24T12:52:12Z</dcterms:modified>
  <cp:revision>21</cp:revision>
  <dc:subject/>
  <dc:title>Презентация PowerPoint</dc:title>
</cp:coreProperties>
</file>