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5BE-92F5-41F7-B3F5-C96388F9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5130-F94F-4E66-BB25-8421AB1E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DFC-CA73-4690-9C01-F2877301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5FB0-2DB7-4C6C-AB7B-B45BBA40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5D0-3BB2-4411-AAF0-E499DA3F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0CC-5B6F-4FDF-8B5B-C1149889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A8D-1407-4212-A8CF-9552C23C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5AF2-A694-4D54-AEEA-2E32C328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DFA5-20B0-4E1A-A52C-AA7359D5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883C-2737-401E-ADDD-15944C84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45B-3A68-49FE-B3CE-B1975034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EB4F-9433-46A1-AEF7-A87EE528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94E9-A32A-4C96-BBA1-C605632E841B}" type="slidenum">
              <a:rPr b="0" lang="en-US" sz="12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000080" y="4000680"/>
            <a:ext cx="77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КАЛУГА Б.К.ЗАЙЦ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по страницам рассказа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«Атлантида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Борис Константинович Зайцев"/>
          <p:cNvPicPr/>
          <p:nvPr/>
        </p:nvPicPr>
        <p:blipFill>
          <a:blip r:embed="rId2"/>
          <a:stretch/>
        </p:blipFill>
        <p:spPr>
          <a:xfrm>
            <a:off x="1000080" y="214200"/>
            <a:ext cx="268596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428760" y="357120"/>
            <a:ext cx="807228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Monotype Corsiva"/>
              </a:rPr>
              <a:t>«переулок вдаль уходящий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Monotype Corsiva"/>
              </a:rPr>
              <a:t>«далекий утонувший город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Monotype Corsiva"/>
              </a:rPr>
              <a:t>«Калуга погружалас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Monotype Corsiva"/>
              </a:rPr>
              <a:t>«так вот течет, проходит все»</a:t>
            </a:r>
            <a:br>
              <a:rPr sz="4800"/>
            </a:br>
            <a:r>
              <a:rPr b="1" lang="en-US" sz="4800" spc="-1" strike="noStrike">
                <a:solidFill>
                  <a:srgbClr val="6633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Картинка 2 из 77"/>
          <p:cNvPicPr/>
          <p:nvPr/>
        </p:nvPicPr>
        <p:blipFill>
          <a:blip r:embed="rId2"/>
          <a:stretch/>
        </p:blipFill>
        <p:spPr>
          <a:xfrm>
            <a:off x="2071800" y="857160"/>
            <a:ext cx="4500360" cy="273708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500040" y="4071960"/>
            <a:ext cx="807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лавный герой прощается с утонувшим в прошлом городом «с мило-бессмысленным именем   Ка-лу-г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143000" y="500040"/>
            <a:ext cx="72867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Monotype Corsiva"/>
              </a:rPr>
              <a:t>«Утро, зима, полузамерзшие стекла, вид на Георгия, что за Лавками, на деревья в церковном дворе, переулок, вдаль уходящий, далёкого, утонувшего города с мило-бессмысленным именем   Ка-лу-га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928800" y="571680"/>
            <a:ext cx="7500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Monotype Corsiva"/>
              </a:rPr>
              <a:t>«Церковь Георгия Победоносца за лавками..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Documents and Settings\Марьяна\Рабочий стол\0_254f6_ba4574bb_XL.jpeg"/>
          <p:cNvPicPr/>
          <p:nvPr/>
        </p:nvPicPr>
        <p:blipFill>
          <a:blip r:embed="rId2"/>
          <a:stretch/>
        </p:blipFill>
        <p:spPr>
          <a:xfrm>
            <a:off x="4071960" y="364320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img-fotki.yandex.ru/get/18/vaolur.0/0_d08a_7946fcb0_L"/>
          <p:cNvPicPr/>
          <p:nvPr/>
        </p:nvPicPr>
        <p:blipFill>
          <a:blip r:embed="rId3"/>
          <a:stretch/>
        </p:blipFill>
        <p:spPr>
          <a:xfrm>
            <a:off x="571680" y="1928880"/>
            <a:ext cx="42861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Documents and Settings\Марьяна\Рабочий стол\Калужский театр н.jpeg"/>
          <p:cNvPicPr/>
          <p:nvPr/>
        </p:nvPicPr>
        <p:blipFill>
          <a:blip r:embed="rId2"/>
          <a:stretch/>
        </p:blipFill>
        <p:spPr>
          <a:xfrm>
            <a:off x="4500720" y="3286080"/>
            <a:ext cx="4138560" cy="31035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"/>
          <p:cNvSpPr/>
          <p:nvPr/>
        </p:nvSpPr>
        <p:spPr>
          <a:xfrm>
            <a:off x="921960" y="500040"/>
            <a:ext cx="674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Monotype Corsiva"/>
              </a:rPr>
              <a:t>Драматический теа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http://apf17.mail.ru/cgi-bin/readmsg/teatr.jpg?preview=1&amp;id=12886295880000001021;0;2&amp;mode=attachment&amp;channel="/>
          <p:cNvPicPr/>
          <p:nvPr/>
        </p:nvPicPr>
        <p:blipFill>
          <a:blip r:embed="rId3"/>
          <a:stretch/>
        </p:blipFill>
        <p:spPr>
          <a:xfrm>
            <a:off x="857160" y="1714680"/>
            <a:ext cx="333540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Марьяна\Рабочий стол\Зайцев\Луначарского.jpg"/>
          <p:cNvPicPr/>
          <p:nvPr/>
        </p:nvPicPr>
        <p:blipFill>
          <a:blip r:embed="rId2"/>
          <a:stretch/>
        </p:blipFill>
        <p:spPr>
          <a:xfrm>
            <a:off x="4214880" y="3500280"/>
            <a:ext cx="4608360" cy="30718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"/>
          <p:cNvSpPr/>
          <p:nvPr/>
        </p:nvSpPr>
        <p:spPr>
          <a:xfrm>
            <a:off x="808560" y="571680"/>
            <a:ext cx="739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Monotype Corsiva"/>
              </a:rPr>
              <a:t>«В конце Никольской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Documents and Settings\Марьяна\Рабочий стол\biblio-otk-325.jpg"/>
          <p:cNvPicPr/>
          <p:nvPr/>
        </p:nvPicPr>
        <p:blipFill>
          <a:blip r:embed="rId3"/>
          <a:stretch/>
        </p:blipFill>
        <p:spPr>
          <a:xfrm>
            <a:off x="357120" y="1500120"/>
            <a:ext cx="50418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Марьяна\Рабочий стол\Зайцев\Изображение 029.jpg"/>
          <p:cNvPicPr/>
          <p:nvPr/>
        </p:nvPicPr>
        <p:blipFill>
          <a:blip r:embed="rId2"/>
          <a:stretch/>
        </p:blipFill>
        <p:spPr>
          <a:xfrm>
            <a:off x="4214880" y="3500280"/>
            <a:ext cx="4714920" cy="31435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"/>
          <p:cNvSpPr/>
          <p:nvPr/>
        </p:nvSpPr>
        <p:spPr>
          <a:xfrm>
            <a:off x="-175320" y="571680"/>
            <a:ext cx="993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Monotype Corsiva"/>
              </a:rPr>
              <a:t>«…сворачивает на Никитскую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C:\Documents and Settings\Марьяна\Рабочий стол\6cadf306be020f46474a114559b.jpg"/>
          <p:cNvPicPr/>
          <p:nvPr/>
        </p:nvPicPr>
        <p:blipFill>
          <a:blip r:embed="rId3"/>
          <a:stretch/>
        </p:blipFill>
        <p:spPr>
          <a:xfrm>
            <a:off x="714240" y="1428840"/>
            <a:ext cx="471492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500040" y="428760"/>
            <a:ext cx="8143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Monotype Corsiva"/>
              </a:rPr>
              <a:t>«Мимо каменных, екатерининских, с аркадами и галереями рядов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428760" y="3857760"/>
            <a:ext cx="5003640" cy="2786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5572080" y="1785960"/>
            <a:ext cx="3367080" cy="4643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http://www.kalugagid.ru/engine/gallery/utils/midphoto.php?ph=gimg_9_25.JPG"/>
          <p:cNvPicPr/>
          <p:nvPr/>
        </p:nvPicPr>
        <p:blipFill>
          <a:blip r:embed="rId4"/>
          <a:stretch/>
        </p:blipFill>
        <p:spPr>
          <a:xfrm>
            <a:off x="428760" y="1785960"/>
            <a:ext cx="5072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961560" y="428760"/>
            <a:ext cx="68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Monotype Corsiva"/>
              </a:rPr>
              <a:t>«…он идёт к Собору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Documents and Settings\Марьяна\Рабочий стол\Калужский Свято-Георгиевский собор н.jpeg"/>
          <p:cNvPicPr/>
          <p:nvPr/>
        </p:nvPicPr>
        <p:blipFill>
          <a:blip r:embed="rId2"/>
          <a:stretch/>
        </p:blipFill>
        <p:spPr>
          <a:xfrm>
            <a:off x="4714920" y="1643040"/>
            <a:ext cx="3571920" cy="454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http://img-fotki.yandex.ru/get/21/vaolur.0/0_dc93_8ea77c5f_L"/>
          <p:cNvPicPr/>
          <p:nvPr/>
        </p:nvPicPr>
        <p:blipFill>
          <a:blip r:embed="rId3"/>
          <a:stretch/>
        </p:blipFill>
        <p:spPr>
          <a:xfrm>
            <a:off x="642960" y="1571760"/>
            <a:ext cx="3467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357120" y="357120"/>
            <a:ext cx="857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Monotype Corsiva"/>
              </a:rPr>
              <a:t>«…а дальше за мостом, через глубокий, летом зеленеющий овраг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5" descr="http://kaluga-city.by.ru/foto/dorev2/23_310.JPG"/>
          <p:cNvPicPr/>
          <p:nvPr/>
        </p:nvPicPr>
        <p:blipFill>
          <a:blip r:embed="rId2"/>
          <a:stretch/>
        </p:blipFill>
        <p:spPr>
          <a:xfrm>
            <a:off x="357120" y="1714680"/>
            <a:ext cx="5072040" cy="3429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http://kaluga-city.by.ru/foto/dorev2/23_330.JPG"/>
          <p:cNvPicPr/>
          <p:nvPr/>
        </p:nvPicPr>
        <p:blipFill>
          <a:blip r:embed="rId3"/>
          <a:stretch/>
        </p:blipFill>
        <p:spPr>
          <a:xfrm>
            <a:off x="3143160" y="3643200"/>
            <a:ext cx="3684600" cy="3038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Марьяна\Рабочий стол\Зайцев\Изображение 041.jpg"/>
          <p:cNvPicPr/>
          <p:nvPr/>
        </p:nvPicPr>
        <p:blipFill>
          <a:blip r:embed="rId4"/>
          <a:stretch/>
        </p:blipFill>
        <p:spPr>
          <a:xfrm>
            <a:off x="6215040" y="1571760"/>
            <a:ext cx="27068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0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000080" y="3571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1285920" y="928800"/>
            <a:ext cx="757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пределить роль Калуги в жизни и творчестве Б. К. Зайцева, место рассказа «Атлантида» в библиографии писате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звивать навык анализа текста художественного произведения, умение соотносить мировосприятие автора и жизненную позицию геро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оспитывать любовь к малой род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143000" y="328608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1357200" y="3857760"/>
            <a:ext cx="7429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оотнести жизненные и творческие периоды Б. К. Зайце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ать понятие об импрессионизме как художественном методе Зайце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пределить идейно-тематическую направленность рассказа «Атлантид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ать ответ на проблемный вопрос «Отличается ли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моя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луга от Калуги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Зайцев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Documents and Settings\Марьяна\Рабочий стол\Scan0002.tif"/>
          <p:cNvPicPr/>
          <p:nvPr/>
        </p:nvPicPr>
        <p:blipFill>
          <a:blip r:embed="rId2"/>
          <a:stretch/>
        </p:blipFill>
        <p:spPr>
          <a:xfrm>
            <a:off x="0" y="765000"/>
            <a:ext cx="9059760" cy="5715000"/>
          </a:xfrm>
          <a:prstGeom prst="rect">
            <a:avLst/>
          </a:prstGeom>
          <a:ln w="0">
            <a:noFill/>
          </a:ln>
        </p:spPr>
      </p:pic>
      <p:sp>
        <p:nvSpPr>
          <p:cNvPr id="91" name="Стрелка вверх 2"/>
          <p:cNvSpPr/>
          <p:nvPr/>
        </p:nvSpPr>
        <p:spPr>
          <a:xfrm>
            <a:off x="8643960" y="1714680"/>
            <a:ext cx="357120" cy="428400"/>
          </a:xfrm>
          <a:prstGeom prst="up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1.96623E-007 C -0.00087 -0.03053 0.00434 -0.04996 -0.01858 -0.06083 C -0.02345 -0.06014 -0.03091 -0.06037 -0.03595 -0.0569 C -0.04063 -0.05343 -0.03699 -0.05528 -0.04167 -0.05042 C -0.04862 -0.04325 -0.05053 -0.04186 -0.05626 -0.03354 C -0.05869 -0.0229 -0.0672 -0.01665 -0.07171 -0.00786 C -0.0764 0.00139 -0.07449 -0.00254 -0.07779 0.00394 C -0.08438 0.01782 -0.09254 0.03077 -0.10001 0.04396 C -0.10383 0.05066 -0.10591 0.05853 -0.10886 0.06593 C -0.11164 0.07403 -0.11737 0.08074 -0.12154 0.08791 C -0.1257 0.09531 -0.129 0.10364 -0.13317 0.11127 C -0.13473 0.11451 -0.13803 0.1159 -0.13976 0.11913 C -0.14411 0.12723 -0.1389 0.12168 -0.14463 0.12677 C -0.14827 0.13417 -0.15435 0.1418 -0.15921 0.14759 C -0.16286 0.15175 -0.16511 0.15684 -0.16893 0.16031 C -0.1731 0.16864 -0.18004 0.17535 -0.18542 0.18252 C -0.19011 0.18876 -0.19601 0.19709 -0.20001 0.20449 C -0.20088 0.20611 -0.20122 0.20819 -0.20192 0.20958 C -0.20539 0.21513 -0.21025 0.21907 -0.21355 0.22508 C -0.21858 0.23433 -0.22379 0.24335 -0.229 0.25238 C -0.23508 0.26255 -0.24029 0.2762 -0.24862 0.28337 C -0.25105 0.28962 -0.254 0.29124 -0.25713 0.29633 C -0.26233 0.30489 -0.26841 0.31298 -0.27292 0.32223 C -0.27362 0.32409 -0.2757 0.32432 -0.27674 0.32594 C -0.28056 0.33172 -0.28091 0.33635 -0.2856 0.34028 C -0.29046 0.34976 -0.29688 0.35693 -0.30209 0.36619 C -0.30504 0.37151 -0.30643 0.37798 -0.3106 0.38168 C -0.31164 0.38562 -0.31667 0.39186 -0.31667 0.39186 C -0.31911 0.39857 -0.32292 0.40297 -0.3264 0.40875 C -0.3323 0.41939 -0.33733 0.43049 -0.3448 0.43975 C -0.34636 0.44692 -0.35383 0.45409 -0.35834 0.45918 C -0.36355 0.46542 -0.36702 0.47352 -0.37292 0.47861 C -0.3764 0.48532 -0.38056 0.49202 -0.3856 0.49665 C -0.38994 0.5059 -0.38751 0.5029 -0.3922 0.50706 C -0.39845 0.51955 -0.3889 0.50081 -0.39792 0.51492 C -0.4007 0.51886 -0.40209 0.52418 -0.40487 0.52788 C -0.40921 0.53343 -0.41442 0.53875 -0.41945 0.54338 C -0.42744 0.55078 -0.43265 0.56304 -0.44063 0.57044 C -0.44289 0.57484 -0.44619 0.57784 -0.44862 0.58224 C -0.45661 0.59774 -0.46685 0.61115 -0.47674 0.6248 C -0.47692 0.62619 -0.47692 0.62781 -0.47779 0.62873 C -0.47917 0.63082 -0.48351 0.63382 -0.48351 0.63382 C -0.48508 0.6403 -0.48699 0.6447 -0.49115 0.64817 C -0.4948 0.65534 -0.49983 0.65534 -0.50487 0.65973 C -0.50834 0.66667 -0.51303 0.6676 -0.51841 0.67014 C -0.52188 0.66968 -0.52553 0.67014 -0.529 0.66875 C -0.53039 0.66829 -0.53091 0.66575 -0.53213 0.66482 C -0.53299 0.66413 -0.53386 0.66413 -0.5349 0.66366 C -0.54029 0.65904 -0.54324 0.65464 -0.54966 0.6521 C -0.55383 0.64793 -0.56095 0.64539 -0.56615 0.64285 C -0.56824 0.64169 -0.57049 0.64123 -0.57292 0.6403 C -0.57379 0.63984 -0.5757 0.63914 -0.5757 0.63914 C -0.58022 0.63475 -0.5856 0.63267 -0.59029 0.62873 C -0.59358 0.62226 -0.59931 0.61694 -0.60487 0.61439 C -0.61233 0.60468 -0.62171 0.59866 -0.63022 0.59126 C -0.63386 0.58802 -0.63647 0.58409 -0.64063 0.58224 C -0.64584 0.57553 -0.65244 0.56905 -0.65834 0.56396 C -0.66095 0.55864 -0.6632 0.55818 -0.66702 0.55494 C -0.67136 0.55101 -0.67449 0.54546 -0.6797 0.54338 C -0.68699 0.53019 -0.67709 0.54662 -0.68838 0.53297 C -0.69254 0.52765 -0.69601 0.52117 -0.70192 0.51886 C -0.70522 0.51585 -0.70799 0.51377 -0.71181 0.51238 C -0.71806 0.5059 -0.71095 0.51261 -0.71737 0.50845 C -0.72813 0.50174 -0.7139 0.50984 -0.7224 0.50313 C -0.72466 0.50105 -0.72744 0.49966 -0.73022 0.49804 C -0.73143 0.49711 -0.73386 0.49549 -0.73386 0.49549 C -0.73577 0.49133 -0.73872 0.48809 -0.74185 0.48508 C -0.74376 0.48323 -0.74758 0.48 -0.74758 0.48 C -0.7481 0.47861 -0.74775 0.47699 -0.74845 0.47606 C -0.74949 0.47467 -0.75122 0.47444 -0.75244 0.47352 C -0.75539 0.47144 -0.75747 0.46797 -0.76008 0.46565 C -0.76251 0.46056 -0.7665 0.45617 -0.77084 0.45409 C -0.77345 0.44877 -0.77674 0.44345 -0.78056 0.43975 C -0.78577 0.42957 -0.79358 0.42263 -0.80018 0.41407 C -0.80383 0.40898 -0.80782 0.40366 -0.81181 0.39834 C -0.81615 0.39232 -0.81286 0.39903 -0.8165 0.39325 C -0.81893 0.38955 -0.82119 0.38585 -0.82431 0.38284 C -0.83282 0.37405 -0.8415 0.36642 -0.84775 0.35439 C -0.84879 0.34976 -0.85088 0.3449 -0.85331 0.34143 C -0.85487 0.33588 -0.85747 0.33056 -0.86129 0.32732 C -0.86563 0.31807 -0.87188 0.31159 -0.87779 0.30396 C -0.88213 0.29818 -0.88421 0.29054 -0.8882 0.28453 C -0.88976 0.27944 -0.89081 0.27736 -0.89428 0.27435 C -0.89723 0.26279 -0.90435 0.25284 -0.91164 0.2459 C -0.91338 0.2422 -0.91581 0.23942 -0.91858 0.23665 C -0.92015 0.2348 -0.92414 0.23156 -0.92414 0.23156 C -0.92796 0.22439 -0.93404 0.22207 -0.93803 0.21467 C -0.9422 0.20657 -0.94897 0.19732 -0.95522 0.19154 C -0.95938 0.18321 -0.96459 0.17581 -0.96789 0.16679 E">
                                      <p:cBhvr>
                                        <p:cTn id="318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im4-tub.yandex.net/i?id=127437871-10"/>
          <p:cNvPicPr/>
          <p:nvPr/>
        </p:nvPicPr>
        <p:blipFill>
          <a:blip r:embed="rId2">
            <a:grayscl/>
          </a:blip>
          <a:srcRect l="0" t="7500" r="0" b="0"/>
          <a:stretch/>
        </p:blipFill>
        <p:spPr>
          <a:xfrm>
            <a:off x="4857840" y="3857760"/>
            <a:ext cx="3973320" cy="26431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"/>
          <p:cNvSpPr/>
          <p:nvPr/>
        </p:nvSpPr>
        <p:spPr>
          <a:xfrm>
            <a:off x="642960" y="500040"/>
            <a:ext cx="7858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Monotype Corsiva"/>
              </a:rPr>
              <a:t>«Калуга, старый город, вековая жизнь, и утра, классы, и козлы, и Александры Георгиевичи, вся бедность, вся тоска – пронизанная лишь одной великой сладостью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571680" y="1714680"/>
            <a:ext cx="1952280" cy="34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2786040" y="78588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акова моя Калуг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2786040" y="2214720"/>
            <a:ext cx="61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Отличается ли она от Калуги Зайце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2786040" y="3857760"/>
            <a:ext cx="621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огласны ли вы с тем, что Калуга Зайцева повторила судьбу Атлантид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1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2" descr="http://www.rusinst.ru/showpic.asp?t=articles&amp;n=ArticleID&amp;id=4264"/>
          <p:cNvPicPr/>
          <p:nvPr/>
        </p:nvPicPr>
        <p:blipFill>
          <a:blip r:embed="rId2"/>
          <a:stretch/>
        </p:blipFill>
        <p:spPr>
          <a:xfrm>
            <a:off x="714240" y="500040"/>
            <a:ext cx="2533680" cy="3033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3643200" y="500040"/>
            <a:ext cx="514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одился Б.К. Зайцев 29 января 1881 года в Орле в небогатой дворянской семье  и годовалым ребёнком был перевезён в деревню Усты Жиздринского уезда Калужской  губернии, где отец его Константин Николаевич , горный инженер, служил управляющим рудника, а затем  директором завода в Люди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714240" y="3714840"/>
            <a:ext cx="79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1892 году Борис Зайцев  поступает  в Калужскую классическую гимназию.  Годы учёбы в Калуге прошли  под  знаком повышенного интереса к русской литературе,  что и определило затем  его  жизненный  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785880" y="49291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о настоянию отца мальчика переводят в 1894 году   в  Калужское реальное училище.  Ко времени окончания учёбы в Калуге  (1898 г.),  отца будущего писателя  переводят в Москву на новую должность. Вскоре туда переезжает  вся сем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Картинка 10 из 761"/>
          <p:cNvPicPr/>
          <p:nvPr/>
        </p:nvPicPr>
        <p:blipFill>
          <a:blip r:embed="rId2"/>
          <a:stretch/>
        </p:blipFill>
        <p:spPr>
          <a:xfrm>
            <a:off x="857160" y="2214720"/>
            <a:ext cx="5077080" cy="3495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714240" y="64296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эмигрировал в 1922 году в Берлин, с 1924 года жил в Пари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714240" y="1214280"/>
            <a:ext cx="80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мер 22 сентября 1972 года в Париже, не дожив две недели до 91 года. Похоронен  на парижском  кладбище Сент-Женевьев-де  Б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971640" y="836640"/>
            <a:ext cx="720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«… двор снежный, вкусный зимний воздух, и калитка, тротуары занесенные, знакомые дома, знакомые сугробы,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«…заметал снежок и надувал сугробы в переулке, ветер звенел в телеграфных проводах, огоньки в сумерках зажигались и безмолвный город, тихая Калуга погружалась в зимнюю, пахучую метель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«Сумрачно, весенний ветер, лужи, первые удары колокола в церкви на Никольской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Monotype Corsiva"/>
              </a:rPr>
              <a:t>«…и городской сад нежно одевается апрельской зеленью,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218040" y="214200"/>
            <a:ext cx="159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Же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"/>
          <p:cNvSpPr/>
          <p:nvPr/>
        </p:nvSpPr>
        <p:spPr>
          <a:xfrm>
            <a:off x="214200" y="857160"/>
            <a:ext cx="87156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Monotype Corsiva"/>
              </a:rPr>
              <a:t>«Шинель реального училища, фуражка с золотыми листиками и ранец за плечам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Monotype Corsiva"/>
              </a:rPr>
              <a:t>«Действительно Женя читал Золя и отравлялся, и действительно ходил в театр чаще, чем бы над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Monotype Corsiva"/>
              </a:rPr>
              <a:t>«Как бывает с теми, кто мечтателен, самолюбив и страшно молод, всё казалось Жене, что, наверно, жизнь его погибнет так же, он вот тоже будет жить где-нибудь в захолустье, в одиночестве, без любви и свет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Monotype Corsiva"/>
              </a:rPr>
              <a:t>«Он гулял теперь каждый день, до темноты, и цель его простая, но и тайная: увидеть Вардин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Monotype Corsiva"/>
              </a:rPr>
              <a:t>«Женя столь же сладостно-пронзительно, с мучением, мечтами проводил свою семнадцатую весн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Александра Карл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214200" y="884160"/>
            <a:ext cx="8643960" cy="82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Monotype Corsiva"/>
              </a:rPr>
              <a:t>«И лишь с помощью Женина отца удалось Александре Карловне завести в городе мастерскую. Тут села она прочно. Уже тенью стал отцовский дом в Москве, тенью и жизнь с Жаном, но навеки пронзил Жан нехитрое её сердце, и каждую субботу у всенощной, и в воскресенье за обедней, и ложась спать молилась Александра Карловна за Жана, плакала и твёрдо верила, что на том свете они встретятс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Monotype Corsiva"/>
              </a:rPr>
              <a:t>«Это давало силу сидеть на Воскресенской, вертеть колесо, выпутываться из безденежья, ссориться и мириться с Капой и вести тот бедно-однообразный оборот, что называется жизнь в городе Калуг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Monotype Corsiva"/>
              </a:rPr>
              <a:t>«У ней были развлечения: через окно наблюдала переулок с домиком Александра Георгиевича, замечала, кто куда идёт, оценивала, одобряла или осуждала. Заказчицы сообщали и подробности. Из бесконечных разговоров с дамами, не отходя от столика у окна, следила она за политикой, общественностью и эротикою город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Картинка 7 из 64000"/>
          <p:cNvPicPr/>
          <p:nvPr/>
        </p:nvPicPr>
        <p:blipFill>
          <a:blip r:embed="rId2"/>
          <a:stretch/>
        </p:blipFill>
        <p:spPr>
          <a:xfrm>
            <a:off x="2143080" y="264312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1214280" y="785880"/>
            <a:ext cx="735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тлантида – остров, ушедший в результате землетрясения и наводнения на морское 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6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6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Картинка 4 из 1415"/>
          <p:cNvPicPr/>
          <p:nvPr/>
        </p:nvPicPr>
        <p:blipFill>
          <a:blip r:embed="rId2"/>
          <a:stretch/>
        </p:blipFill>
        <p:spPr>
          <a:xfrm>
            <a:off x="2071800" y="571680"/>
            <a:ext cx="4230720" cy="30002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714240" y="3929040"/>
            <a:ext cx="7643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«Сквозь возбуждение, волнение, впереди была жизнь, через нее идти, она готовила и радости, и скорби. Сзади же Воскресенская и Александра Карловна, и колесо, и Капа, и театр, и улицы с первым озарившим их видением – все погружалось в глубину легких мор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6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19:14:53Z</dcterms:created>
  <dc:creator>Admin</dc:creator>
  <dc:description/>
  <dc:language>en-US</dc:language>
  <cp:lastModifiedBy>User</cp:lastModifiedBy>
  <dcterms:modified xsi:type="dcterms:W3CDTF">2011-10-22T16:53:41Z</dcterms:modified>
  <cp:revision>52</cp:revision>
  <dc:subject/>
  <dc:title>Слайд 1</dc:title>
</cp:coreProperties>
</file>