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F0A-CF18-4417-896E-00FCF3DB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FF8-C603-4992-81C3-2CABC8A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1E4-51E3-481A-A162-8FE60D94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449-A14B-4C1A-ABDC-88AD4D20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C17-EA3E-47C8-9266-FC3E18C8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061-54C8-4A2E-9635-A568F70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11E-ADE6-4487-A843-48DED09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65E-E607-4BE4-9726-6AB4055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51C-5BE2-430F-80FD-EE5BC63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7CD-23F0-4278-9D8F-4481882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AF8-D2CD-434C-AFED-80CCCE6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967-670C-4C9B-913E-1598085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A1D-A93D-48AB-A24F-A111B211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735280" cy="255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85320" y="345960"/>
            <a:ext cx="50119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торская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«Знани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 №15» города Ка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7440" y="3716280"/>
            <a:ext cx="203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лен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кт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е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1а и 11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84360" y="2955960"/>
            <a:ext cx="6480360" cy="3479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260280"/>
          <a:ext cx="4325760" cy="621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4325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272200" y="193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2360" y="285264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До конца учеб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года у нас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еще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356000" y="2421000"/>
            <a:ext cx="4629240" cy="31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0" y="260280"/>
            <a:ext cx="4176720" cy="2016360"/>
          </a:xfrm>
          <a:prstGeom prst="leftArrow">
            <a:avLst>
              <a:gd name="adj1" fmla="val 50000"/>
              <a:gd name="adj2" fmla="val 517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ть у нас еще рабо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360" y="5734080"/>
            <a:ext cx="42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деемся, что они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шей достойной сме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13440" y="620640"/>
            <a:ext cx="450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2205000"/>
            <a:ext cx="7848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5000"/>
                  </a:srgbClr>
                </a:solidFill>
                <a:latin typeface="Impact"/>
              </a:rPr>
              <a:t>Как бы жизнь тебя ни бил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5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5000"/>
                  </a:srgbClr>
                </a:solidFill>
                <a:latin typeface="Impact"/>
              </a:rPr>
              <a:t>помни, знанье - это  сил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5000"/>
                </a:srgbClr>
              </a:soli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63840" y="279360"/>
            <a:ext cx="71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ступление лекторской группы в Цент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полнительного образования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2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56000" y="3232080"/>
            <a:ext cx="4659480" cy="349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8760" y="474336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товимся к лек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5920" y="76500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у конечно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м всегда найдет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580000" y="1700280"/>
            <a:ext cx="3024360" cy="1052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5445000"/>
            <a:ext cx="77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а является апробационной площадкой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едрению ИСО. Лекторская группа использ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утбук и проектор в свое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3789360"/>
            <a:ext cx="3959280" cy="287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333360"/>
            <a:ext cx="4427640" cy="298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24800" y="4581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которые из компьюте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зентаций, подгото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кторской груп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608720" cy="345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3280" y="3071880"/>
            <a:ext cx="4322880" cy="3497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88360" y="1125360"/>
            <a:ext cx="438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в формате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информативных ле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0" y="515772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д нашим выступлень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скрываем мы волн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277920"/>
            <a:ext cx="4969080" cy="372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5435640" cy="407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06680" y="105264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глашают часто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160" y="4941720"/>
            <a:ext cx="270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ступ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классн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465800" cy="214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4248360" cy="2144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79280" y="3084480"/>
            <a:ext cx="4897440" cy="344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62200" y="3284640"/>
            <a:ext cx="377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ше участи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тском откры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етевом конкур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формацио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МОЯ ПРАВОСЛ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3800" cy="303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464000" cy="302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3586320"/>
            <a:ext cx="4105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43280" y="1557360"/>
            <a:ext cx="42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 святыню Подзава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й России рассказ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684920" cy="576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760" y="61657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уд наш тяжкий- оценили, всем по грамоте вруч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2:20:09Z</dcterms:created>
  <dc:creator>Гамалинская С. С.</dc:creator>
  <dc:description/>
  <dc:language>en-US</dc:language>
  <cp:lastModifiedBy>User</cp:lastModifiedBy>
  <dcterms:modified xsi:type="dcterms:W3CDTF">2011-10-23T18:32:16Z</dcterms:modified>
  <cp:revision>16</cp:revision>
  <dc:subject/>
  <dc:title>Слайд 1</dc:title>
</cp:coreProperties>
</file>