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22B-90B8-4A27-850D-7E5A9BEF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BDE-7AE9-4B44-8E71-DDD1C1C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7FC-9E1E-4CE8-964B-5A5E732F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42E-7CA0-410D-9713-5ED7BE22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340-A064-44D9-B4C1-DCED9B5E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F20-E9A2-4C25-8CA7-48E8054B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A82F-16BA-469E-9C27-0F5D28D8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09E-18BE-4EE9-A337-91F5EC4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CE6-B975-4911-B736-26EC3D2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1F4-3BBD-4F78-8891-B5BA822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F5AF-4072-40B2-BF03-B0CAF3E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60A-C903-4637-89D5-81DCC1D9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5C2-6715-4EA0-8EC7-2D0A921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A4E2-06DF-4B09-85E6-26D6F46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1D0-5F1C-4C89-A1B7-988A6A39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E057-29D6-426D-9B15-41EC4945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9A2B-28C8-42DC-B1FF-C4F9DED5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788-4839-4FD4-8117-DD36027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57E-9978-4D2C-BA7F-AED26B2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4B2-76B8-47C2-B6C7-DB59D43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BB5-9CF5-490A-B82C-6E37D93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892-D69C-4876-9D7F-FC80328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A32-5AA1-4B5B-8548-38B2C05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D16-5AC6-421F-8CC9-1B72A95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04E-8D26-494E-A382-068694275A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2C7-7A05-4C13-BC0B-17303C9811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ектная деятельно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7448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ьное приложение к журнал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"Лицейское и гимназическое образование"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. 4, 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439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руктура и циклограмма УЧЕБНОГО ПРОЦЕ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632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сякий проект, независимо от типа, имеет практически одинаковую структуру. Это позволяет составить единую циклограмму проведения любого проекта - долгосрочного или краткосрочного, группового или индивидуального - вне зависимости от его тематики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становка проблем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движение гипотез - путей решения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еление на групп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ланирование деятельности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бор форм продук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дготовка продукт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бор информаци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руктурирование информац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зготовление продук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формление продук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7. Выбор формы презентац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8. Подготовка презентац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9. Презентац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0. Самоооценка и самоанализ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-531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ЕРСОНАЛЬНЫЕ или ГРУППОВЫЕ ПРОЕКТЫ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907920"/>
          <a:ext cx="8229600" cy="545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имущества персональных проектов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 работы над проектом может быть выстроен и отслежен с максимальной точностью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учащегося формируется чувство ответственности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йся приобретает опыт на всех без исключения этапах выполнения проекта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у учащегося важнейших ОУН (исследовательских, презентационных, оценочных) - вполне управляемый процесс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имущества групповых проектов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роектной группе формируются навыки сотрудничества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может быть выполнен наиболее глубоко и разносторонне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каждом этапе работы, как правило, есть свой ситуационный лидер; каждый, в зависимости от своих сильных сторон, включается в работу на определенном этапе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рамках проектной группы могут быть образованы подгруппы, предлагающие различные пути решения проблемы, идеи, гипотезы, точки зрения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мент соревновательности повышает мотивацию и положительно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Где много легких дел, там много и трудных"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Лао-ц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Распределение учащихся по проектным группа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Решение этой задачи требует совмещения принципов самостоятельности учащихся в выборе темы и равной численности состава проектных групп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 1 этапе определяется минимальный и максимальный размер проектной групп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 2 этапе каждый учитель предлагает свою тему проект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 3 этапе (за три месяца до начала проектной недели) на стенде размещается информационная таблица "Подготовка к проектной недели«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 4 этапе каждый ученик, руководствуясь своим интересом, выбирает одну тему проекта и вписывает свою фамилию в соответствующую графу информационной таблиц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 5 этапе (за два месяца до начала проектной недели) формирование проектных групп должно быть в целом завершено. После этого переход учащихся из группы в группу возможен лишь как исключение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Классификация проектов по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ОМИНИРУЮЩЕЙ ДЕЯТЕЛЬНОСТИ УЧАЩИХС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актико-ориентированный проект - нацелен на решение социальных задач, отражающих интересы участников проекта или внешнего заказчик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следовательский проект - по структуре напоминает научное исследовани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формационный проект - направлен на сбор информации о каком либо объекте или явлении с целью анализа, обобщения и представления информации для аудитори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ворческий проект - проедполагает максимально свободный и нетрадиционный подход к его выполнению и презентации результатов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левой проект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1155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Классификация проектов по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КОМПЛЕКСНОСТИ И ХАРАКТЕРУ КОНТАКТО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 комплексности (предметно-содержательной области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онопроекты - как правило, в рамках одного предмета или одной области знания, но могут использовать информацию из других областей знания и деятельности; руководитель - учитель-предметник, консультант - учитель другой дисциплины. Могут быть литературно-творческими, естественнонаучными, экологическими, лингвистическими, культуроведческими, историческими, географическими, музыкальными, спортивными. Интеграция - на этапе подготовки продукта к презентации: например, компьютерная верста литературного альманаха или музыкальное оформление спортивного праздника. Могут проводиться в рамках классно-урочной систем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предметные проекты - проводятся исключительно во внеурочное время под руководством нескольких специалистов в различных областях знаний. Глубокая и содержательная интеграция требуется уже на этапе постановки проблем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о характеру контакт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утриклассны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утришкольны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гиональные (в пределах одной страны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ждународны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следние два типа проектов являются телекоммуникационными, они требуют координации деятельности участников, их взаимодействия в сети Internet, задействования средств современных компьютерных технолог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-100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Классификация проектов по ПРОДОЛЖИ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Мини-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могут укладываться в урок или часть урока. Наиболее продуктивны для курса иностранного язык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Краткосроч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требуют 4-6 уроков для координации деятельности участников проектных групп. Основная работа по сбору информации, изготовлению продукта и подготовке презентации - в рамках внеклассной деятельности и дом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Недель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выполняются в группах в ходе проектной недели, их реализация занимает примерно 30-40 часов и целиком проходит с участием руководителя проекта. Возможно сочетание классных и внеклассных форм работ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Долгосрочные (годичные)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могут выполняться и в группах. И индивидуально. Весь цикл - от определения темы до презентации (защиты) - выполняется во внеурочное врем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4920" y="-27360"/>
            <a:ext cx="7754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Единственный путь, ведущий к знания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это деятельность» 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Бернард Шоу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907920"/>
          <a:ext cx="8785440" cy="5771880"/>
        </p:xfrm>
        <a:graphic>
          <a:graphicData uri="http://schemas.openxmlformats.org/drawingml/2006/table">
            <a:tbl>
              <a:tblPr/>
              <a:tblGrid>
                <a:gridCol w="4535640"/>
                <a:gridCol w="4249800"/>
              </a:tblGrid>
              <a:tr h="57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продуктов проект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-сай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из данных социологического опро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авнительно-сопоставительный анализ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тлас, карта, учебное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об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еофиль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тав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зета, журнал, справочни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стюм, модель, коллекц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а, мультимидийный продук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ыкальное или художественное произведе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ановка, праздни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скурсия, поход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онопроект и т.д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ы презентаций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овая игр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нстрация продукта, выполненного на основе информационных технолог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ценировка-диалог литературных или исторических персонаж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а с зало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учная конференция, доклад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сс-конференц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тешествие, экскурс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клам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левая игр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ктакль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ревнова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епередача и т.д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роектная деятельность и технолог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требности в виде краткой формулировки задач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сследование (социальный заказ, аналоги, методы, материалы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изайн-критер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воначальные идеи (много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ценка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работка лучшей идеи (2-3 иде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ланирование, изготов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спытание продукта в реальной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ценка продукта по отношению к потребности определенной в начале проек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реальности может быть и такая последовательность этапов: 1-7-2-4-7-9-3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7254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"Метод проектов - это не алгоритм, состоящий из четких этапов, а модель творческого мышления и принятия решений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ж. Пи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роектная деятельность: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роль учител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столько преподавать, сколько создать условия для проявления у детей интереса к познавательной деятельности, самообразованию и применению полученны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ель перестает быть "предметником", а становится педагогом широкого профил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руководитель проекта должен обладать высоким уровнем культуры и некоторыми творческими способностя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исок ролей, которые предстоит "прожить" по ходу реализации проект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Энтузиаст, вдохновляющий и мотивирующий учащихся на достижение цел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пециалист, обладающий знаниями и умениями в нескольких (не во всех!) областя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онсультант, помогающий организовать работу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Руководитель, помогающий планировать работу по време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"Человек, задающий вопросы", помогающие увидеть ошибки и недочеты работы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оординатор группового процесс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ксперт, анализирующий результаты выполненного проек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Проектная деяте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341360"/>
            <a:ext cx="72327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Мы привыкаем к цепям и жалеем об их отсутствии, когда их с нас снимают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Джон Дью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2712600"/>
            <a:ext cx="79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ы же реальные цели участников классно-урочного процес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ет быть, создание условий для развития лич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что это за условия и как их созда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3933720"/>
          <a:ext cx="8208720" cy="210024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ственно реальная цель учителя - "пройти программу«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 ученик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лучшем случае - "стать умнее" 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ином - выучить то, что пригодиться для экзамен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6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удшем случае - перетерпеть годы школьной учебы.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Какие именно общеучебные умения и навыки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формируются в проектной деятельности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ефлексивные уме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осмысливать задачу, для решения которой недостаточно зна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отвечать на вопрос: чему нужно научиться для решения поставленной задачи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оисковые (исследовательские) умения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самостоятельно генерировать идеи, т.е. изобретать способ действия, привлекая знания из различных област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самостоятельно находить недостающую информацию в информационном пол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запрашивать необходимую информацию у эксперта (учителя, консультанта, специалист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находить несколько вариантов решения проблем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выдвигать гипотез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устанавливать причинно-следственные связ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-171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Какие именно общеучебные  умения и навыки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уются в проектной дея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Умения и навыки работы в сотрудничеств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коллективного планир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любым партнер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взаимопомощи в группе в решении общих зада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делового партнерского общ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находить и исправлять ошибки в работе других участников групп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Менеджерские умения и навык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проектировать процесс (изделие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планировать деятельность, время, ресурс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принимать решения и прогнозировать их последств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анализа собственной деятельности (ее хода и промежуточных результатов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Какие именно общеучебные  умения  и навыки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формируются в проектной дея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Коммуникативные уме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инициировать учебное взаимодействие со взрослыми - вступать в диалог, задавать вопросы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вести дискусс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отстаивать свою точку зр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находить компромис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интервьюирования, устного опроса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резентационные умения и навык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ыки монологической реч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уверенно держать себя во время выступ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ртистические ум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использовать различные средства наглядности при выступлен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отвечать на незапланированные вопрос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Nota Bene: ПРОЕКТЫ И ПРОБЛЕМ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сегда существует опасность переоценить результат проекта и недооценить сам процес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 выполнении исследовательского проекта важно избежать превращения его в реферат. Недопустимо создавать у детей представление о научной деятельности как о компиляции чужих мыслей. Проектант должен выработать и представить собственную точку зрения на источники информации, определить цель исследования и его методи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всегда удается выдержать направленность проектной деятельности учащихся, обеспечив содержательное единство тем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прост вопрос реализации воспитательных задач проектной деятельности: основные моральные принципы - взаимопомощь, верность долгу, чувство ответственности за принятые решения - основываются на действии, они должны быть "прожиты"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78032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"Тот, кто не смотрит вперед, оказывается позади"</a:t>
            </a:r>
            <a:br>
              <a:rPr sz="1900"/>
            </a:b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Дж. Герберт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Проект - это метод обучения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Может применяться на уроке и во внеурочное время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Ориентирован на достижение целей самих учащихся, и поэтому он уникален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оект формирует невероятно большое количество умений и навыков, и поэтому он эффективен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оект дает ученикам опыт деятельности, и поэтому он незамени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Проектирование - это содержание обучения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Может быть частью предмета "Технологии", самостоятельным предметом, лечь в основу профильных спецкурсов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Проект - это форма организации учебного процесс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Может стать альтернативой классно-урочному обучению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Проект - это особая философия образования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Философия цели и деятельност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Философия результатов и достижений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Школьники о проектной деятельности по данным отечественных и зарубежных исследований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ладшие школьники отмечают, что одноклассники, оказавшиеся с ними в одной проектной группе, в ходе работы над проектом почти всегда "становятся лучшими друзьями"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терес к проекту зависит от степени самостоятельности: 62% школьников всех возрастов ответили, что проект был им интересен именно потому, что выполнялся лишь при небольшой помощи руководителя. Напротив, у тех, кто выбрал тему, руководствуясь чьим-либо советом, или получил ее от преподавателя, интерес к проектной деятельности был низким. Один из таких учеников сказал: "Работа над проектом научила меня ненавидеть проекты, и в итоге я остался недоволен собой"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6% учащихся выделяют как самый интересный исследовательский этап проекта; 32% - этап обработки собранного материала и подготовки выхода проекта; 12% - презентац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Школьники о проектной деятельности по данным отечественных и зарубежных исследований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 итогам выполнения проектов 74% учащихся стали выше оценивать свои возможности и способности; остальные говорили о недовольстве собой, часто добавляя, что постараются выпол­нить следующий проект качественне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а вопрос "Чему удалось научиться в ходе работы над проектом?" учащиеся дали такие ответы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спределять правильно врем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нализировать собственные действ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езентовать результаты своего труд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оделывать все до конц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остигать поставленной цел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ссматривать тему с разных точек зр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т классно-урочного обучения к целесообразной деятельности ученика, с учетом его личных интересов и целей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8558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того, чтобы ученик воспринимал знания как действительно нужные, ему необходимо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поставит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перед собой и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решить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начимую для него проблему, взятую из жизни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применить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ее решения определенные знания и умения, в т.ч. и новые, которые еще предстоит приобрести, и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получит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в итоге реальный, ощутимый </a:t>
            </a:r>
            <a:r>
              <a:rPr b="0" lang="en-US" sz="2100" spc="-1" strike="noStrike">
                <a:solidFill>
                  <a:srgbClr val="ff3300"/>
                </a:solidFill>
                <a:latin typeface="Verdana"/>
              </a:rPr>
              <a:t>результат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Внешний результат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можно будет увидеть, осмыслить, применить на практик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Внутренний результат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- опыт деятельности - станет бесценным достоянием учащегося, соединяющим знания и умения, компетенции и ценно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"Лобовые атаки в обучении приносят еще большие потери, чем на войне"</a:t>
            </a:r>
            <a:br>
              <a:rPr sz="1900"/>
            </a:b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Джон Дью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spcBef>
                <a:spcPts val="700"/>
              </a:spcBef>
              <a:buClr>
                <a:srgbClr val="cc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…С точки зрения ребенка самый большой недостаток школы это - невозможность для него свободно, в полной мере использовать опыт, приобретенный вне школы, в самой школе. И, наоборот, с другой стороны он оказывается неспособным применить в повседневной жизни то, чему научился в школе."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4760" y="338040"/>
            <a:ext cx="77072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Классификация учебных проектов по Коллингсу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Проекты игр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детские занятия, непосредственной целью которых является участие в групповой деятельности, как то: различные игры, народные танцы, театральные постановки, разного рода развлечения и т.д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Экскурсион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целесообразное изучение проблем, связанных с окружающей природой и общественной жизнью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Повествователь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те, разрабатывая которые, дети имели целью “получить удовольствие от рассказа в самой разнообразной форме” - устной, письменной, вокальной (песня), художественной (картина), музыкальной (игра на рояле) и т.д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Конструктив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нацеленные на создание конкретного, полезного продукт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Метод проектов в советской школе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по следам отечественных разработок 1920-х гг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…Проектный метод может воспитать деятельных, энергичных, предприимчивых граждан, умеющих жертвовать личными интересами во имя общественного блага, а следовательно, и необходимых при постройке новых начал коммунистического общества"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Проф. Е.Г.Кагаров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"Метод проектов в трудовой школе" (1926г.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 использование "метода проектов" в 1920-е годы привело к недопустимому падению качества обучения. И на долгие годы о нем забыли. А какие же были причины явления падения качества обучения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временные исследователи истории педагогики выделяют следующие причины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тсутствие подготовленных педагогических кадров, способных работать с проектам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лабую разработанность методики проектной деятельност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ипертрофию "метода проектов" в ущерб другим методам обуче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очетание "метода проектов" с педагогически неграмотной идеей "комплексных программ"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5240" y="304920"/>
            <a:ext cx="7780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«В школе, в которой работают по методу проектов, первое слово - за ребенком, последнее - за учителем"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Коллинг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сновные требования к учебному проек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бота над проектом всегда направлена на разрешение конкретной, причем социально-значимой проблемы - исследовательской, информационной, практической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действия по разрешению проблемы всегда начинается с проектирования самого проекта, в частности - с определения вида продукта и формы презентации. Наиболее важной частью плана является пооперационная разработка проекта, в которой приводится перечень конкретных действий с указанием результатов, сроков и ответственных. Однако некоторые проекты (творческие, ролевые) не могут быть сразу четко спланированы от начала до конц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езультатом работы над проектом, его выходом, является продукт, который создается участниками проектной группы в ходе решения поставленной проблем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оект - это "пять П"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ектирование (планирование)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иск информации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дукт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зентац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естое "П" проекта - это его портфолио, т.е. папка, в которой собраны все рабочие материалы, в том числе черновики, дневные планы, отчеты и д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2:21:29Z</dcterms:created>
  <dc:creator>User</dc:creator>
  <dc:description/>
  <dc:language>en-US</dc:language>
  <cp:lastModifiedBy>User</cp:lastModifiedBy>
  <dcterms:modified xsi:type="dcterms:W3CDTF">2011-10-08T14:07:41Z</dcterms:modified>
  <cp:revision>5</cp:revision>
  <dc:subject/>
  <dc:title>Проектная деятельность</dc:title>
</cp:coreProperties>
</file>